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48C7-4BD1-4668-9422-2DC551237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10E7-4959-4DA2-AFD3-0984FAE16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537-F363-4166-82F4-B48A3E0A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61F-3124-4614-94AA-069DA9DB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662-5B46-474F-8C8F-397C7B37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402-03AD-4479-BF2E-612EA443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F79-EB2B-433A-93CE-920E2EF2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AAB-A7E9-421C-BFBC-5041AA2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03A-436B-40D0-BAD9-C4896E34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433-8C2F-4B3D-9676-D5905C51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6A6-451A-4467-ACB4-EB5613E2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E65-C077-4A31-ACBE-CA4F3AC9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12C-2AB8-4CFC-A9A5-68B95B0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645-36FE-4E95-9255-F44F4D07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2E8E-81C4-428A-9118-A3F27E991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una Parr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Bruna. Yo vivo en New York. Tengo 14 años. Estoy feliz y cansada. Amo música. Yo no tengo her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 mi hermano esta muy mal hoy. Yo estoy muy hambrienta. Jajaja Vamos!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4724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Buenas tarde como estas Katy?, si yo quiero comer helados. ¿ Pero tú hermano tambien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41911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Hola, Bruna tú quieres comer helados ho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41148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 Katy y Bruna!!! Él Nate y yo vamos ter una fiesta hoy as cuatr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Ustedes quieren i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Andrea Chaves</cp:lastModifiedBy>
  <dcterms:modified xsi:type="dcterms:W3CDTF">2012-12-06T14:57:29Z</dcterms:modified>
  <cp:revision>105</cp:revision>
  <dc:subject/>
  <dc:title>Profile</dc:title>
</cp:coreProperties>
</file>